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B02-83BF-4F2B-9CC2-3847B950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0AE-8AB9-418F-B782-6D45B8C7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243-A559-4AEB-853B-03BEBACE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E9C-8542-435A-9606-F30115CA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716-AD8E-44E1-B655-9D9C862E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5BB-C495-4D1A-82EB-2756F231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9E2-79E2-4242-BBE0-666051B0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6C4-A12C-4763-A88C-2A51C6E4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8FA-17BC-479D-8C01-F33F3A29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057-E240-4A11-B3AB-9F2E55B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18E-9E74-4FBD-BE48-82C1EE5D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C31-1268-4334-AE87-32EA6509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7FFB-3474-4208-98E1-5125C2991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O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ZIŢII COMP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 d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ogică şi argumen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Elena Lupşa, Victor Bratu, Maria Dorina Stoic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8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33520" y="914400"/>
            <a:ext cx="449568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mba  naturală conţine expresii lingvistice care nu pot fi formaliza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...], în cadrul unei logici a termenilor şi prin intermediul propoziţiilor categorice. O expresie propoziţională precum: - Dacă este prea frig, nu voi merge la plimbare - nu poate fi abordată ca o propoziţie categorică, în acest sens fiind creată o altă logică numită fie „logică propoziţională”, fie „logica propoziţiilor compuse”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mele de „propoziţie compusă”, provine de la faptul că în structura unei propoziţii compuse se pot pune în evidenţă cel puţin o propoziţie simplă şi cel puţin o constantă logică. [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oziţiile compuse se obţin aplicând anumite operaţii logice la propoziţiile simple, iar mai precis este vorba de a aplica aceste operaţii la valoarea de adevăr a propoziţiilor simple.  De aceea, propoziţiile compuse sunt tratate ca funcţii de adevăr, respectiv valoarea de adevăr a unei propoziţii compuse depinde de valoarea de adevăr a propoziţiilor simple. [...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limbile naturale, mecanismul negării este neuniform, respectiv modul de construire a negaţiei unei propoziţii este în funcţie de forma logico-lingvistică pe care propoziţia o are dej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propoziţia negativă „Nu p” este echivalentă, în esenţă, cu „Nu este adevărat că p”, dar, în anumite contexte, diferenţa dintre cele două moduri de exprimare este evidentă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dacă din punct de vedere gramatical se spune despre conjuncţie că leagă părţi de propoziţie, din punct de vedere logic este vorba de legarea a două propoziţii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 toate acestea, conjuncţia gramaticală „şi” nu îndeplineşte întotdeauna rolul unei conjuncţii logice. [..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791320" y="1981080"/>
            <a:ext cx="2676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380880"/>
            <a:ext cx="487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 de evaluare a competenţelor digitale – document de luc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1295280"/>
            <a:ext cx="76197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prietăţile principalilor operatori propoziţional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terţului exclu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iul noncontradi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egea dublei negaţi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dempotenţ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ger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utativitatea conjunc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ociativitatea conjuncţie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zitivitate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poziţia implicaţi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conjuncţi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stributivitatea implicaţiei faţă de disjuncţ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</cp:lastModifiedBy>
  <dcterms:modified xsi:type="dcterms:W3CDTF">2012-06-15T12:32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